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232-B6EE-4909-9D37-B6501373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E92-1FB6-4B59-81CD-9941D6DE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11C-8E94-4B50-AB16-AAB9C787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116-21F1-4F08-B278-A0A35658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C08-7121-4AE4-91A2-89E701F5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795-E87F-497D-980E-5370BAF0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12-B1E1-4A01-B305-5B852F9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AAB-88A3-4C14-B358-F534FC4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DA2-A7A9-4929-84D0-A782F0F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6FB-5FAA-411B-8281-DAB04D9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FEA-9094-4AD4-BC4D-B9B109F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31D-66C0-4809-AB9B-E2A4744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DD2-5FED-462E-BBBF-D1DE7D54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04920" y="3352680"/>
            <a:ext cx="12189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380880"/>
            <a:ext cx="121896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4920" y="2362320"/>
            <a:ext cx="121896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04920" y="434340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04920" y="5334120"/>
            <a:ext cx="1218960" cy="990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523880" y="53341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743200" y="5334120"/>
            <a:ext cx="1219320" cy="99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962520" y="5334120"/>
            <a:ext cx="1218960" cy="990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7620120" y="1371600"/>
            <a:ext cx="121896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2209680" y="1981080"/>
            <a:ext cx="12193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09680" y="1143000"/>
            <a:ext cx="121932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495680" y="380880"/>
            <a:ext cx="121932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2209680" y="3962520"/>
            <a:ext cx="1219320" cy="990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6629400" y="380880"/>
            <a:ext cx="12193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638680" y="380880"/>
            <a:ext cx="99072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2209680" y="2971800"/>
            <a:ext cx="121932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5181480" y="5334120"/>
            <a:ext cx="1219320" cy="99036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6400800" y="5334120"/>
            <a:ext cx="1219320" cy="990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7620120" y="5334120"/>
            <a:ext cx="121896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7620120" y="4343400"/>
            <a:ext cx="121896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620120" y="3352680"/>
            <a:ext cx="121896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3581280" y="198108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04920" y="1371600"/>
            <a:ext cx="121896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620120" y="2362320"/>
            <a:ext cx="121896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429000" y="380880"/>
            <a:ext cx="12193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209680" y="38088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29000" y="3962520"/>
            <a:ext cx="121932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648320" y="3962520"/>
            <a:ext cx="121896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867280" y="3962520"/>
            <a:ext cx="1219320" cy="99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5867280" y="297180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867280" y="1981080"/>
            <a:ext cx="121932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4648320" y="1981080"/>
            <a:ext cx="121896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7620120" y="38088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2:58:40Z</dcterms:created>
  <dc:creator>Connie Campbell</dc:creator>
  <dc:description/>
  <dc:language>en-US</dc:language>
  <cp:lastModifiedBy>Caroline Roth</cp:lastModifiedBy>
  <cp:lastPrinted>2011-01-27T12:48:18Z</cp:lastPrinted>
  <dcterms:modified xsi:type="dcterms:W3CDTF">2011-02-16T03:10:03Z</dcterms:modified>
  <cp:revision>18</cp:revision>
  <dc:subject/>
  <dc:title>Slide 1</dc:title>
</cp:coreProperties>
</file>